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86B-ADD2-433F-89B8-32864CAC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CF84-7FC5-4B42-B615-F681A6AF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9CC-5C72-416C-AB91-16CDDA3A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5F5-8044-4566-97CE-A7F2A8C9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7F62-43E5-41F2-BE92-4E374421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D8C7-D6B3-421D-AC32-844986E0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90D1-0C4D-46AA-BABD-3C6B933C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8E3F-8DB9-4875-AD9E-716A76CE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1CA2-D7F3-4488-8308-4A50EB89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2185-A9EF-423F-A22B-A50415E1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FF06-C343-4707-BD4D-EDF8BF11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12D1-F19A-4892-8C1E-ED480D9D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C198-DD13-497A-B49B-20DE21A4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6929-00B9-4905-940E-D5ABAAF7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2369-BDC7-46E3-84CE-0927ABD4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E045-99EA-4710-B594-FFB8DB98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174D-1C41-4073-881A-4B2658BE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08BD-6639-4A0C-B078-8D970B9A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4E2-1934-478B-93B1-4914BB13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BDB-CCFF-4D18-B383-32327F27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73E6-96C1-4D55-8736-A4C65811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0DD-9E98-44E7-A8A7-BE2F2FF2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5E00-2F5C-4653-90A5-9B865D46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20A-E3AD-49CC-B377-63B85D0B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7E3A-F6F3-434E-8A92-C0BAB57CC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E440-55E0-4AD6-8461-C784DBBDA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llege_Scholastic_Ability_Test" TargetMode="External"/><Relationship Id="rId2" Type="http://schemas.openxmlformats.org/officeDocument/2006/relationships/hyperlink" Target="http://online.wsj.com/article/SB122644964013219173.html?mod=googlenews_wsj" TargetMode="External"/><Relationship Id="rId3" Type="http://schemas.openxmlformats.org/officeDocument/2006/relationships/hyperlink" Target="http://www.findingdulcinea.com/news/education/2008/november/South-Korea-Holds-its-Breath-As-Students-Take-Entrance-Exam.html" TargetMode="External"/><Relationship Id="rId4" Type="http://schemas.openxmlformats.org/officeDocument/2006/relationships/hyperlink" Target="http://www.koreatimes.co.kr/www/news/special/2008/11/181_30122.html" TargetMode="External"/><Relationship Id="rId5" Type="http://schemas.openxmlformats.org/officeDocument/2006/relationships/hyperlink" Target="http://blogs.newamericamedia.org/nam-round-table/1390/s-korea-a-republic-of-suicide" TargetMode="External"/><Relationship Id="rId6" Type="http://schemas.openxmlformats.org/officeDocument/2006/relationships/hyperlink" Target="http://en.wikipedia.org/wiki/Oecd" TargetMode="External"/><Relationship Id="rId7" Type="http://schemas.openxmlformats.org/officeDocument/2006/relationships/hyperlink" Target="http://english.ohmynews.com/articleview/article_view.asp?at_code=390145" TargetMode="External"/><Relationship Id="rId8" Type="http://schemas.openxmlformats.org/officeDocument/2006/relationships/hyperlink" Target="http://www.voanews.com/english/archive/2008-08/2008-08-21-voa42.cfm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BIG DAY: the Korean College Entrance Exam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Peter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2540160"/>
            <a:ext cx="32925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 am I talking about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year, in November, students in their 12th grade in high schools take a test called the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수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 Scholastic Ability Test i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year it was November 13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en Does the Test Start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st starts at 9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s at about 6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ing newspaper publishes questions/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ds who don’t do well usually study for 1 mor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ere Did This Test Take Place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ousands of high schools in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’s so Special About that Day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a day basically reserved for the 590,000 high school sen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es/Stock Market opens one hou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tudents don’t go to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listening, airplanes can’t leave/land in Ko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ea Electric Power Corp. has 4,000 members to ensure that there isn’t a power shor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reans want test to be f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400 teachers who make test are isolated for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rounded by po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TV/Internet/monitored phon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ype Before the Tes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papers/TV shows publish which foods are good for increasing concentration and boosting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seaweed soup 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미역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) is considered by some TV shows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There are business for this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y do is give parents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religious parents (Christian/Buddhist) go to te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y for countless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816520" y="1905120"/>
            <a:ext cx="3327480" cy="2209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477120" y="4191120"/>
            <a:ext cx="1779480" cy="2666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943600" y="4267080"/>
            <a:ext cx="2666880" cy="2210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943600" y="4190760"/>
            <a:ext cx="2819520" cy="2438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978520" y="0"/>
            <a:ext cx="31654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y Is The Test Important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80% of high school seniors plan to go to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st could influence salary 30 years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become less important over th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vmt./Education officials want it to be more Wes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eople don’t think college is important, but can’t fight social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a objective and fair way to see who studied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ty for everyone of all social statuses to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ow Does It Make Me Feel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countless hours, pay thousands of dollars for on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e memorization isn’t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Koreans get into Ivy Leagues, but many have highest dropou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Korea boasts some of the best students, they are critic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have creativity, critical thinking, and comprehensive understanding of a su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riticized for having less mat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tudents commit suicide when test results come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ea has #1 suicide rate (24/100,000 people) in the OE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http://en.wikipedia.org/wiki/College_Scholastic_Ability_Te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Arial"/>
                <a:hlinkClick r:id="rId2"/>
              </a:rPr>
              <a:t>http://online.wsj.com/article/SB122644964013219173.html?mod=googlenews_wsj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Arial"/>
                <a:hlinkClick r:id="rId3"/>
              </a:rPr>
              <a:t>http://www.findingdulcinea.com/news/education/2008/november/South-Korea-Holds-its-Breath-As-Students-Take-Entrance-Exam.htm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Arial"/>
                <a:hlinkClick r:id="rId4"/>
              </a:rPr>
              <a:t>http://www.koreatimes.co.kr/www/news/special/2008/11/181_30122.htm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Arial"/>
                <a:hlinkClick r:id="rId5"/>
              </a:rPr>
              <a:t>http://blogs.newamericamedia.org/nam-round-table/1390/s-korea-a-republic-of-suic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Arial"/>
                <a:hlinkClick r:id="rId6"/>
              </a:rPr>
              <a:t>http://en.wikipedia.org/wiki/Oec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Arial"/>
                <a:hlinkClick r:id="rId7"/>
              </a:rPr>
              <a:t>http://english.ohmynews.com/articleview/article_view.asp?at_code=39014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Arial"/>
                <a:hlinkClick r:id="rId8"/>
              </a:rPr>
              <a:t>http://www.voanews.com/english/archive/2008-08/2008-08-21-voa42.cf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ttp://finance.yahoo.com/tech-ticker/article/52955/Cram-School-Confidential:-Korean-Students-Becoming-Worlds-Be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ttp://www.koreatimes.co.kr/upload/news/top(57).jp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ttp://cache.gettyimages.com/xc/51750146.jpg?v=1&amp;c=ViewImages&amp;k=2&amp;d=17A4AD9FDB9CF193CC300C081D9F4700403EB205DAC68BE023DF6925564C0726A55A1E4F32AD313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ttp://www.hawcc.hawaii.edu/nursing/RNKorean_Images07/brown-seaweed-soup-070630.jp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2:47:47Z</dcterms:created>
  <dc:creator>Peter Lee</dc:creator>
  <dc:description/>
  <dc:language>en-US</dc:language>
  <cp:lastModifiedBy>Peter Lee</cp:lastModifiedBy>
  <dcterms:modified xsi:type="dcterms:W3CDTF">2008-12-11T13:30:27Z</dcterms:modified>
  <cp:revision>9</cp:revision>
  <dc:subject/>
  <dc:title>The BIG DAY: the College Entrance Exam </dc:title>
</cp:coreProperties>
</file>